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7B5-76FB-4656-B6EC-95F3C9D7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35F-A986-4600-9288-E00FD750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915-9A51-4D4A-89F8-36DE59EF9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35E2-4E44-43A1-A044-545961EE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4F1-1670-4698-A98A-4529117F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B655-49A5-4AE8-B294-87CD172D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DA4-0CAC-4631-91B6-10A8006E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71D-2844-4A53-900A-6DCEFB4D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606-85D4-4C9D-854E-CC8DE823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CC41-5A0B-4A3E-AB24-5DB0F0EB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D73-226F-46FB-874F-E40F945C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1C3-7733-4BAE-B16C-D50E8D6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DC0-8E9E-49DD-83E7-41B91B3C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275-4A3B-4F71-B75D-C1F4AE8E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307-E15A-46A7-A81C-FF805BF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C19-3F86-4CE8-B043-8BD73073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E4A-80E6-4992-BF19-A5D89E62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1A0-6815-4AF6-8934-09AE9C1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B10-7906-4276-83DF-211B856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08D-7140-4A67-9536-1246C52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10B-F521-4E94-B1A0-A7AF9BAD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F7E-14B2-4A7F-8752-C9C8E1C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01E-E8F7-4CC8-A91E-AD635272C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14400" y="762120"/>
            <a:ext cx="76201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rony vs. Ambiguity</a:t>
            </a:r>
            <a:endParaRPr b="1" lang="en-US" sz="4800" spc="1" strike="noStrike">
              <a:ln w="2844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62120" y="3124080"/>
            <a:ext cx="7696080" cy="31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mbigu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mbiguous) - when the meaning is unclear or you’re not sure of the meaning or intention because it could mean more than one thing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omise I’ll give you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morr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inci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someting just happens to occur at the same time as something else, for example thinking about eating a donut and all of a sudden you see a donut shop o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d Ti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unfortunate pairing of situations, like a ship’s radio operator going to bed early the same night that another  ship is sinking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04920" y="380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ir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eaker says something different from what he or she really beli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sarcasm or exagg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fter eating a really terrible m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the best cook ever! How did you get that salsa tasting so amaz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2590920"/>
            <a:ext cx="8534520" cy="411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tional ir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tuation is different than common sense makes it to b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n tries to shoot Ronald Reagan as he steps out of his car. He misses the President, but the bullets hit the bullet-proof windows of the car and rebound to hit him anyway. The glass that was supposed to protect the president actually causes him to be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pass out buttons to promote better product safety. They have to recall the buttons because they have sharp pins that keep stabbing the people who wea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457200" y="685800"/>
            <a:ext cx="838188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Cor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dwin Arlington Robin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Richard Cory went down tow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eople on the pavement looked at him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 gentleman from sole to crow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favored, and imperially sl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always quietly arraye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always human when he talke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till he fluttered pulses when he said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Good-morning," and he glittered when he walk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e was rich - yes, richer than a king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dmirably schooled in every grace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e we thought that he was everyth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us wish that we were in his pl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on we worked, and waited for the ligh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nt without the meat, and cursed the brea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ichard Cory, one calm summer nigh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t home and put a bullet through his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mdisast"/>
          <p:cNvPicPr/>
          <p:nvPr/>
        </p:nvPicPr>
        <p:blipFill>
          <a:blip r:embed="rId1"/>
          <a:stretch/>
        </p:blipFill>
        <p:spPr>
          <a:xfrm>
            <a:off x="5334120" y="380880"/>
            <a:ext cx="30765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od_20041003"/>
          <p:cNvPicPr/>
          <p:nvPr/>
        </p:nvPicPr>
        <p:blipFill>
          <a:blip r:embed="rId1"/>
          <a:stretch/>
        </p:blipFill>
        <p:spPr>
          <a:xfrm>
            <a:off x="1676520" y="228600"/>
            <a:ext cx="5408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28600" y="135000"/>
            <a:ext cx="868680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nis Morissette -  Ir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old man, turned 98, He won the lottery, and died the next da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's a black fly in your chardonnay, It's a death row pardon, two minutes too late, And isn't it ironic?   Don't you think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rain: It's like rain, on your wedding day, It's a free ride, when you've already paid, It's the good advice, that you just didn't take, And who would've thought? It figur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. Play-It-Safe, was afraid to fly, He packed his suitcase, and kissed his kids goodbye, He waited his whole damn life, to take that fl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as the plane crashed down he thought, "Well isn't this nice"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sn't it ironic?  Don't you think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frain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 life has a funny way of sneaking up on you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think everything's okay and everything's going r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life has a funny way of helping you ou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you think everything's gone wrong and everything blows up in your fac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raffic jam, when you're already late, A no smoking sign, on your cigarette break, It's like ten thousand spoons, when all you need is a knif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's meeting the man of your dreams, and then meeting his beautiful wif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sn't it ironic? Don't you think?  A little too ironic?  Yeah I really do think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frain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has a funny way of sneaking up on you, And life has a funny, funny way of helping you out, Helping you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ronic708949"/>
          <p:cNvPicPr/>
          <p:nvPr/>
        </p:nvPicPr>
        <p:blipFill>
          <a:blip r:embed="rId1"/>
          <a:stretch/>
        </p:blipFill>
        <p:spPr>
          <a:xfrm>
            <a:off x="7086600" y="2514600"/>
            <a:ext cx="164772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10 - Ironic.mp3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5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vsh0029l"/>
          <p:cNvPicPr/>
          <p:nvPr/>
        </p:nvPicPr>
        <p:blipFill>
          <a:blip r:embed="rId1"/>
          <a:stretch/>
        </p:blipFill>
        <p:spPr>
          <a:xfrm>
            <a:off x="2062080" y="228600"/>
            <a:ext cx="5929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0492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mban904l"/>
          <p:cNvPicPr/>
          <p:nvPr/>
        </p:nvPicPr>
        <p:blipFill>
          <a:blip r:embed="rId1"/>
          <a:stretch/>
        </p:blipFill>
        <p:spPr>
          <a:xfrm>
            <a:off x="1905120" y="0"/>
            <a:ext cx="5438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za0824l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za0823l"/>
          <p:cNvPicPr/>
          <p:nvPr/>
        </p:nvPicPr>
        <p:blipFill>
          <a:blip r:embed="rId1"/>
          <a:stretch/>
        </p:blipFill>
        <p:spPr>
          <a:xfrm>
            <a:off x="990720" y="304920"/>
            <a:ext cx="777240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1:47:46Z</dcterms:created>
  <dc:creator>CATHY CARPENTER</dc:creator>
  <dc:description/>
  <dc:language>en-US</dc:language>
  <cp:lastModifiedBy>Dan Olsen</cp:lastModifiedBy>
  <dcterms:modified xsi:type="dcterms:W3CDTF">2011-04-05T13:03:32Z</dcterms:modified>
  <cp:revision>14</cp:revision>
  <dc:subject/>
  <dc:title>Slide 1</dc:title>
</cp:coreProperties>
</file>